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53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42D7-0550-4CB9-8998-30EAC77F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2B5B-28CC-4D56-95BD-66B58206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3810-E29E-436D-BD2C-55C69A77D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B60F-6629-4B43-AF63-35D9BEC2D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F6BE-83B5-4053-8B59-500AFCA2C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D08F-939F-4DFF-9048-C82776DD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E632-70AC-4B4E-92F1-C2C9951F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1DC9-1686-4080-95A5-92F1D83F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E615-4BD1-4ADB-B690-1992723D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1635-36D6-41FB-87A6-172DE312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50A8-D1E6-4F40-A109-9C0D03FA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825F-243A-4A28-993A-FCF3EADD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15DA-9214-4669-BE39-B9A10434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01F1-83C9-4536-A2B5-F534A270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D9DC-8B8D-476B-9CD1-BEF46B12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7204-C396-4A96-AA18-301CDB97B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AE2A-AD9D-4D68-AB7C-D600825D9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9633C-29B0-4FF6-97C3-165F99A0A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FB4A2-B1A9-4EF4-A2BB-EF8717F1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9C445-A69B-46AA-B65C-3B7B551D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5CEE5-1AD1-4D19-A437-8DE165BD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8D3C8-99D5-41F2-B750-02DF2D34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182B-735C-4373-B469-B40865C0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2A9C9-706A-4762-B39C-4F8EB833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F67C4-1753-4B00-AE4C-F9ED201F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84919-193E-4542-9C03-742C0050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FAE36-DD2F-4D72-BF82-6190934C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15CFA-7C44-4453-90FD-49AC1DEB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C3893-7B68-4B5A-8F58-A8D9548C1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60642-52C6-4CEA-9829-B30AA59A6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19D55-D183-44FF-84D3-A9728E52C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17C6B-FBE7-41E6-9485-9F28E4BC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8EDA0-DEE8-4F46-8240-BFA0FDC0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43A2-6163-46CC-A999-662C6616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A1155-85A6-4050-8AE3-9315BAAF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8FC26-FC97-4882-9927-BB497420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B4026-B10A-41A0-8A50-474C25C2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84E1E-0660-4ED1-8F27-303FCD0F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1DD9F-0B81-4AD6-AE45-D3606A23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BE730-C736-46E1-8E25-ECA2815F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2CD21-6FD1-4D01-BF0D-69913ACC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804DA-89D2-4947-ACC0-0FD97243B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48C86-3C43-4E0C-AFFE-B69321EF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B75A9-1A71-4C6E-B12C-1D24B6B79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2841-1756-4050-A342-5F4ABA41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BE2A2-8911-4004-B94F-B48E6DC2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2BE86-77AC-45AB-AED4-B1C1F70D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EAB4F-A067-4413-8A82-F3015516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047E9-87D8-4AAC-98AD-C523ABCB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4DCCC-FC45-4E11-8735-D0B38FFD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5C4A9-7454-4546-AA4D-4C295315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39553-3FD6-404B-B9D8-F0C88CA0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DF2BE-AB17-4907-AEEC-4D35DFC6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BC10E-AD4A-44E6-8564-00853364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435AE-52D5-4CDC-A637-FE613EC3C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84A8-E4A5-4CBF-A3DE-55B4B6E3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7D8EE-25EB-4260-9E8A-FD8C060E1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E725C-F2B0-4DEA-B6E6-C29B9F7FC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17300-4507-45FB-B58F-030E8C20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A06D1-3027-4277-B108-DA6862D9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4B41C-5BFC-40EB-8EC3-3D002219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79605-B140-4AA3-B598-B039A6B1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4D403-2D04-485E-B7C2-EDDA7663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A49D0-4FC9-4B89-8826-B216235B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D06CD-8D4A-4518-B80F-93B79720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CF046-CEDE-402D-B8EF-A3F69864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91F3-DD76-4F7E-9E9E-D9E07884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DFAF3-A296-44A1-BD31-BAF54FE9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03E23-9EAD-4BE4-BEF7-AFCB873B2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F7FEE-39F3-453E-87D4-55645AE9E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19AA7-2B43-4F5D-A94C-9E3C6985E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551B3-B58E-424C-A608-D2DE3CE9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E936D-4CA7-4D4C-B558-F455C2C9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4E640-C9FA-48E7-96E7-6F3EDA9A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9AD43-7F55-4E3D-8500-51FFD4BA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A15F8-3B9E-4CCB-AFD3-A9634390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0D346-97FC-4A80-BEDC-4BCDB6C1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B826-4C83-4E31-BA96-EE1E18E7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ECE64-5FF5-46C3-9EE1-03417AF8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312F4-00D2-4B1B-8DDA-0B53A3DC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53865-544B-4A84-A957-00734045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1624D-77E2-4B94-835D-C2B48FC37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F68BE-82F3-4D5B-AC05-49DA17175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E5459-65F3-4DAA-BBD4-E8D05834D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BF593-001F-490B-BA4D-220A249A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B934D-85B0-44C9-81E6-630B6110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05602-F33D-4BD6-A8A7-5DB8187F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94BFF-4F8B-41C5-876B-E646D92B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F356-F56A-4AB5-929C-FBA66967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9F903-BD9B-41A5-8AB3-525EBB9A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109F0-2CFA-4B4F-88FF-8EF0B6B4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D1662-1207-4916-9EB8-49A2B7F2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A3B4A-E74F-4235-B483-CBD5C52A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E20FB-F130-4A6A-9F85-85DBA4C3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0AE4A-61CD-4845-9888-B65DEA2C0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B679C-55CC-4C39-8618-8CA9B8973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erékszögű háromszög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Egyenes összekötő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Egyenes összekötő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A37E-CB77-4B1B-9D1C-2EDDE9382EB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Derékszögű háromszög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Egyenes összekötő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Egyenes összekötő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Háromszög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13D1-A6BD-4E15-BEAE-5F440EF848D4}" type="slidenum">
              <a:rPr b="0" lang="hu-H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erékszögű háromszög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Egyenes összekötő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Egyenes összekötő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D1F3-9358-4AD2-8724-C8A52549084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erékszögű háromszög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Háromszög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Egyenes összekötő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Egyenes összekötő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42BC-31BF-4481-B704-C5254FEB210E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erékszögű háromszög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Egyenes összekötő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Egyenes összekötő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C776-A03E-4426-829D-B995FB88567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A591-7D50-48B1-945B-0F6E8DB87E3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8073-E5C8-45CA-952D-526DDB628FAA}" type="slidenum">
              <a:rPr b="0" lang="hu-H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1194-8925-46C5-8AA6-5044419CA221}" type="slidenum">
              <a:rPr b="0" lang="hu-H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Cím 1" descr=""/>
          <p:cNvPicPr/>
          <p:nvPr/>
        </p:nvPicPr>
        <p:blipFill>
          <a:blip r:embed="rId1"/>
          <a:stretch/>
        </p:blipFill>
        <p:spPr>
          <a:xfrm>
            <a:off x="566640" y="1749600"/>
            <a:ext cx="842508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68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69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Cím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92708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romlotta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javulta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ugyan olyanok maradta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Cím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927080"/>
          </a:xfrm>
          <a:prstGeom prst="rect">
            <a:avLst/>
          </a:prstGeom>
          <a:ln w="0">
            <a:noFill/>
          </a:ln>
        </p:spPr>
      </p:pic>
      <p:pic>
        <p:nvPicPr>
          <p:cNvPr id="373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74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76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77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Cím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9270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ige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ne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81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82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84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85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Cím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9270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álmaimat kívánom megvalósítani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a legjobb képességeimet veszem figyelemb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figyelemmel kísérem a munkaerőpiacot és a szükséges szakemberek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D) még nem tudom mi lesz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89" name="Tartalom helye 9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90" name="Tartalom helye 10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92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93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Cím 1" descr=""/>
          <p:cNvPicPr/>
          <p:nvPr/>
        </p:nvPicPr>
        <p:blipFill>
          <a:blip r:embed="rId1"/>
          <a:stretch/>
        </p:blipFill>
        <p:spPr>
          <a:xfrm>
            <a:off x="493560" y="-66600"/>
            <a:ext cx="8242560" cy="19256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szülők vélemény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egyéni véleménye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tanáraim vélemény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D) ismerősöm, családtagom jár(t) ide, s az ő véleménye alapjá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Cím 4" descr=""/>
          <p:cNvPicPr/>
          <p:nvPr/>
        </p:nvPicPr>
        <p:blipFill>
          <a:blip r:embed="rId1"/>
          <a:stretch/>
        </p:blipFill>
        <p:spPr>
          <a:xfrm>
            <a:off x="450720" y="182520"/>
            <a:ext cx="8528040" cy="31831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7200" y="335736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144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ige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ne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Cím 6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97" name="Tartalom helye 16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98" name="Tartalom helye 17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400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401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Cím 1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242560" cy="19940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2357280"/>
            <a:ext cx="822960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csalá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karri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a kettő összhangj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405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406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408" name="Tartalom helye 5" descr=""/>
          <p:cNvPicPr/>
          <p:nvPr/>
        </p:nvPicPr>
        <p:blipFill>
          <a:blip r:embed="rId2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409" name="Tartalom helye 7" descr=""/>
          <p:cNvPicPr/>
          <p:nvPr/>
        </p:nvPicPr>
        <p:blipFill>
          <a:blip r:embed="rId3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Cím 5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57420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6143760"/>
            <a:ext cx="82296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57200" y="207144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álint Zsófi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Fehér Judi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Tátrai Kitti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Vas Ver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12.B osztályos tanuló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2009. November 16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49" name="Tartalom helye 7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50" name="Tartalom helye 8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52" name="Tartalom helye 9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53" name="Tartalom helye 8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431200" cy="15476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körülbelül ugyanannyi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sokkal több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kevesebb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Cím 1" descr=""/>
          <p:cNvPicPr/>
          <p:nvPr/>
        </p:nvPicPr>
        <p:blipFill>
          <a:blip r:embed="rId1"/>
          <a:stretch/>
        </p:blipFill>
        <p:spPr>
          <a:xfrm>
            <a:off x="396720" y="-85680"/>
            <a:ext cx="8485200" cy="1927080"/>
          </a:xfrm>
          <a:prstGeom prst="rect">
            <a:avLst/>
          </a:prstGeom>
          <a:ln w="0">
            <a:noFill/>
          </a:ln>
        </p:spPr>
      </p:pic>
      <p:pic>
        <p:nvPicPr>
          <p:cNvPr id="357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58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60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61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hogy jó jegyet kapja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hogy minél műveltebb legye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hogy másoknak megfelelje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D) hogy folytathassam a tanulást valamilyen felsőoktatási intézménybe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Cím 3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65" name="Tartalom helye 6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66" name="Tartalom helye 7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5:08:36Z</dcterms:created>
  <dc:creator>Agora Kft.</dc:creator>
  <dc:description/>
  <dc:language>en-US</dc:language>
  <cp:lastModifiedBy>Jakab</cp:lastModifiedBy>
  <dcterms:modified xsi:type="dcterms:W3CDTF">2010-07-05T21:42:34Z</dcterms:modified>
  <cp:revision>64</cp:revision>
  <dc:subject/>
  <dc:title>Jövőkép és önismeret a 15-16 éves Apáczais diákoknál</dc:title>
</cp:coreProperties>
</file>