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2B056-DEB3-40E1-87B7-D7C35EE6F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B2E8C-BF38-484D-B9F7-6FE6D645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C6E20-D4CB-44B6-8BF0-1C243D02B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AA039-444A-4BC8-88E4-44F9C26B7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9D59-3F6B-4F2A-AA26-D97003322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891B-861A-4268-B9F6-C2870B97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AE1E-263B-4BB5-ACAC-AB851FF4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F91F-6B72-47F8-8ADF-49B03E39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DF51-D41A-4373-8285-B31FFBA2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CCA6-3C68-4BCD-8808-29FAFA36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E3C2-2660-473B-AF7D-BAFEB35B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A9E9F-3813-4465-80BF-AE306ED5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C824-C4C9-42C5-87FE-8BE1B3C3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C8F3-DAF1-49AA-9DBC-40BF5E0D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0039-703D-4F9E-B21B-3AC8AB85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41C3-8009-4E77-992E-2835623E8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AF83-3706-4D5C-BD95-358788CD1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0DE9A-06CC-430D-8F5C-0410BC2D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6A5EF-3210-4830-9AE9-D4634477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65813-A461-4EBC-9A02-9348D398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57245-A8EE-4058-A89D-481D2B45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2A070-EE55-4C9B-958F-4F9DB089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D4FFE-BBBD-48D5-AD9E-F941629B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0F79A-0BEC-4EAD-A705-F8AEEBF0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7f3f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B2E2-5D00-459D-B939-9E5FF75F9956}" type="slidenum">
              <a:rPr b="0" lang="en-US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50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8565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a6362"/>
                </a:gs>
                <a:gs pos="100000">
                  <a:srgbClr val="7453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Calibri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50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8565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a6362"/>
                </a:gs>
                <a:gs pos="100000">
                  <a:srgbClr val="7453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Calibri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Calibri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7f3f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18E9-95F3-49AD-8AB9-9AA5BF255004}" type="slidenum">
              <a:rPr b="0" lang="en-US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jfifo.uw.hu/vendegl.doc" TargetMode="External"/><Relationship Id="rId2" Type="http://schemas.openxmlformats.org/officeDocument/2006/relationships/hyperlink" Target="http://vallalkozokedv.webkatalogus.com/v_formak.html" TargetMode="External"/><Relationship Id="rId3" Type="http://schemas.openxmlformats.org/officeDocument/2006/relationships/hyperlink" Target="http://vallalkozokedv.webkatalogus.com/v_formak.html" TargetMode="External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Egyéni vállalkozás: </a:t>
            </a:r>
            <a:br>
              <a:rPr sz="4400"/>
            </a:b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hagyományos étterem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84360" y="2133720"/>
            <a:ext cx="4038840" cy="35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Terjeszkedési lehetősége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7f3f3"/>
                </a:solidFill>
                <a:latin typeface="Garamond"/>
              </a:rPr>
              <a:t>a főváros különböző belső kerületeibe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7f3f3"/>
                </a:solidFill>
                <a:latin typeface="Garamond"/>
              </a:rPr>
              <a:t>vidéki nagyvárosokba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16360" y="1700280"/>
            <a:ext cx="3638520" cy="24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d8c1ba"/>
                </a:solidFill>
                <a:latin typeface="Garamond"/>
              </a:rPr>
              <a:t>Irodalomjegyzé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570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hjfifo.uw.hu/vendegl.doc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://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vallalkozokedv.webkatalogus.com/v_formak.html</a:t>
            </a: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2000" y="5229360"/>
            <a:ext cx="403236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7f3f3"/>
                </a:solidFill>
                <a:latin typeface="Garamond"/>
              </a:rPr>
              <a:t>Készítette: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7f3f3"/>
                </a:solidFill>
                <a:latin typeface="Garamond"/>
              </a:rPr>
              <a:t>Palotai Tímea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7f3f3"/>
                </a:solidFill>
                <a:latin typeface="Garamond"/>
              </a:rPr>
              <a:t>Barakka Patrícia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.11.01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Szükséges dolgozó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üzletvezető (vendéglátó-ipari végzettséggel)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könyvelő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pincér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szakács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159520" y="1600200"/>
            <a:ext cx="30146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Kft. Indítási költségei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Törzstőke: minimum 3.000.000,- Ft, ennek minimum a 30 %-nak, de  legalább 1.000.000,- forintnak készpénznek kell lennie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Egy tag törzsbetéte 100.000,- Ft-nál kevesebb nem lehet, s a forintban kifejezendő törzsbetét tízezerrel maradéktalanul osztható legyen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Közzétételi díj 20.000,- Ft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Illeték 80.000,- Ft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Aláírási címpéldány min, 5 db 2.000,- Ft/db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Ügyvédi díj: ügyvédtől függő, kb. 100.000,- 120.000 Ft.</a:t>
            </a:r>
            <a:br>
              <a:rPr sz="2000"/>
            </a:br>
            <a:r>
              <a:rPr b="0" lang="en-US" sz="20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Engedélye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ÁNTSZ engedély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tűzvédelmi hatóságok hozzájárulása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jövedéki engedély alkohol és dohányárura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működési engedély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közterületi árusítási engedély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Bejelentési kötelezettsége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876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szeszes ital forgalmazásának bejelentése a rendőrségen 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a zene/műsorszolgáltatás bejelentése a rendőrségen, helyi jegyzőnél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az üzlet osztályba sorolás</a:t>
            </a:r>
            <a:r>
              <a:rPr b="0" lang="en-US" sz="2400" spc="-1" strike="noStrike">
                <a:solidFill>
                  <a:srgbClr val="f7f3f3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 a helyi jegyzőnél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I. osztályba sorolás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elkülönített fogadótér a bejárattó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a vendégekkel érintkező dolgozók formaruhát viselnek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a vezető és a konyhafőnök szakképzett és 5 év szakmai gyakorlata van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a fellépő művészek A típusú igazolvánnyal rendelkeznek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égfelirat készítése 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név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üzlettípus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ulajdonos neve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vállalkozás formája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Arcul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dohányzó és nemdohányzó helyiség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barátságos légkör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kerthelyiség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00720" y="1844640"/>
            <a:ext cx="4032000" cy="26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8c1ba"/>
                </a:solidFill>
                <a:latin typeface="Garamond"/>
              </a:rPr>
              <a:t>Elhelyezkedés</a:t>
            </a:r>
            <a:br>
              <a:rPr sz="4000"/>
            </a:b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fővárosban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közel a központhoz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forgalmas helyen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788000" y="1341360"/>
            <a:ext cx="3327480" cy="3807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08:27:06Z</dcterms:created>
  <dc:creator>Pekár Mihály</dc:creator>
  <dc:description/>
  <dc:language>en-US</dc:language>
  <cp:lastModifiedBy>Jakab</cp:lastModifiedBy>
  <dcterms:modified xsi:type="dcterms:W3CDTF">2010-07-05T21:45:20Z</dcterms:modified>
  <cp:revision>6</cp:revision>
  <dc:subject/>
  <dc:title>Egyéni vállalkozás: hagyományos étterem</dc:title>
</cp:coreProperties>
</file>